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20D-7743-40A7-B5A4-F511324A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26D-D35F-4AF5-BA34-7E1F169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F50-687A-4124-991A-498BFA35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C6D-7319-4801-8B1A-64F75F05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62FF-9B04-4555-86B0-467FA362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230D-F19C-40C3-A208-45F481D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E286-1708-41D3-8207-AD08AF67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F85-227C-4702-8076-87B12F87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BE39-DFB3-4F70-9D33-BE60839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945-C5B2-40F7-B8A0-811272ED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3FB-1619-4625-8B21-FB314A1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EEB-0008-438C-B882-474B30B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228-2763-4E8F-84A5-3F69859A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F1E-3E6D-4F48-8517-65B4EDC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CC29-54B7-4D3B-BD91-6D8AE873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A71-8B61-4A3B-8D4F-97943C87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389-2014-4079-8F29-8E58F51E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B71-15F2-48A7-BD17-72782C1C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78D-3AF6-4513-BE20-684750B1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702-E446-4BA1-B1BF-943A6FD2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C87-BA34-49D3-B4A9-46244E9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140-5EB9-4F60-A36C-C939873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A36-C5F7-4BE2-A426-A7A66A5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5CB-E58B-4217-BDC3-B181568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BF6-CD22-4B1A-90FB-7494A915D544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AF65-F418-4ED6-A308-540E577E3CF1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e Face on the Milk Cart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Book by: Caroline B. Cooney</a:t>
            </a:r>
            <a:br>
              <a:rPr sz="3200"/>
            </a:b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owerpoint by: K. G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Excit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5105160" cy="503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yster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urpris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ad Aloud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gs 71-72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hapter 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8120" y="1143000"/>
            <a:ext cx="2627280" cy="441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524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638680" y="2133720"/>
            <a:ext cx="12960" cy="1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8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33066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29:01Z</dcterms:created>
  <dc:creator>cysd</dc:creator>
  <dc:description/>
  <dc:language>en-US</dc:language>
  <cp:lastModifiedBy>Tiffany Brewer</cp:lastModifiedBy>
  <dcterms:modified xsi:type="dcterms:W3CDTF">2008-11-25T23:13:59Z</dcterms:modified>
  <cp:revision>8</cp:revision>
  <dc:subject/>
  <dc:title>The Face on the Milk Carton</dc:title>
</cp:coreProperties>
</file>